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4A8-1436-4973-AE00-84CEAAF4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580-3470-4DC9-B6BC-7A2C084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4CE-D6B4-413B-8D57-B7A7D9E9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0DD-E6F7-4B01-B4D4-7B7A101A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5A4-68B0-45BF-B160-1DC0FD6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EE9-0A13-47CE-B438-4946D0B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BEC-5334-4CDD-AF97-B6438B49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09A-9FEF-49C9-86A4-DE05DBC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DBE-2189-4435-A20B-C87BFC11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AA7-0CAE-463D-99EC-6823D37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38F-1408-4D32-97CB-BB664E1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A54-4FE1-41C1-8914-8C846B3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49A-0148-4D67-BF69-62F08ECE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4003560" y="15969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305960" y="22669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609440" y="19641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4017960" y="3475080"/>
            <a:ext cx="10144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307760" y="415944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609800" y="385704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882880" y="782640"/>
            <a:ext cx="959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459520" y="2150640"/>
            <a:ext cx="245988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391560" y="121896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1520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7939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6084360" y="24922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6084360" y="24919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6084720" y="196920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3284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2780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3428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6121080" y="3133440"/>
            <a:ext cx="1215000" cy="1585080"/>
          </a:xfrm>
          <a:prstGeom prst="bentConnector3">
            <a:avLst>
              <a:gd name="adj1" fmla="val 499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6121440" y="3133800"/>
            <a:ext cx="1208880" cy="1077120"/>
          </a:xfrm>
          <a:prstGeom prst="bentConnector3">
            <a:avLst>
              <a:gd name="adj1" fmla="val 49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6121080" y="3133440"/>
            <a:ext cx="1213560" cy="5547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014640" y="1643040"/>
            <a:ext cx="905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3305880" y="2270160"/>
            <a:ext cx="102456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3609360" y="1967400"/>
            <a:ext cx="383040" cy="66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4133880" y="225900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4170240" y="29005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030480" y="3521160"/>
            <a:ext cx="905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2940840" y="4529520"/>
            <a:ext cx="175824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3609720" y="3860280"/>
            <a:ext cx="383400" cy="63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4119480" y="41371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4156200" y="55119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224080" y="828720"/>
            <a:ext cx="8557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1611000" y="2335680"/>
            <a:ext cx="2459880" cy="37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2542320" y="1404720"/>
            <a:ext cx="58140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625788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625320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6259680" y="27939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4979520" y="2492280"/>
            <a:ext cx="1281600" cy="51840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4979520" y="2491920"/>
            <a:ext cx="1275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4979520" y="1969200"/>
            <a:ext cx="1280520" cy="52308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627552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627048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627696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016240" y="3133440"/>
            <a:ext cx="1262520" cy="158508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016600" y="3133800"/>
            <a:ext cx="1256400" cy="1077120"/>
          </a:xfrm>
          <a:prstGeom prst="bentConnector3">
            <a:avLst>
              <a:gd name="adj1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016240" y="3133440"/>
            <a:ext cx="1261080" cy="55476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5311800" y="52293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7388280" y="47228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7383600" y="5245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7389720" y="576432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6157440" y="546228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6157440" y="546228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6157800" y="493956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5400000">
            <a:off x="3790440" y="3205080"/>
            <a:ext cx="2960640" cy="995400"/>
          </a:xfrm>
          <a:custGeom>
            <a:avLst/>
            <a:gdLst>
              <a:gd name="textAreaLeft" fmla="*/ 0 w 2960640"/>
              <a:gd name="textAreaRight" fmla="*/ 2961000 w 296064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20600" y="3244680"/>
            <a:ext cx="7361280" cy="1244880"/>
          </a:xfrm>
          <a:prstGeom prst="rightArrow">
            <a:avLst>
              <a:gd name="adj1" fmla="val 50000"/>
              <a:gd name="adj2" fmla="val 825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6640" y="282096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2000160"/>
            <a:ext cx="1030320" cy="528840"/>
          </a:xfrm>
          <a:prstGeom prst="wedgeRectCallout">
            <a:avLst>
              <a:gd name="adj1" fmla="val -47995"/>
              <a:gd name="adj2" fmla="val 100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7640" y="2009880"/>
            <a:ext cx="1030320" cy="528480"/>
          </a:xfrm>
          <a:prstGeom prst="wedgeRectCallout">
            <a:avLst>
              <a:gd name="adj1" fmla="val -54620"/>
              <a:gd name="adj2" fmla="val 9864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1099800" y="1837440"/>
            <a:ext cx="7188840" cy="978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3" name=""/>
          <p:cNvSpPr/>
          <p:nvPr/>
        </p:nvSpPr>
        <p:spPr>
          <a:xfrm>
            <a:off x="4705200" y="1000080"/>
            <a:ext cx="1030320" cy="528840"/>
          </a:xfrm>
          <a:prstGeom prst="wedgeRectCallout">
            <a:avLst>
              <a:gd name="adj1" fmla="val -49231"/>
              <a:gd name="adj2" fmla="val 1058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8200" y="990720"/>
            <a:ext cx="1030320" cy="528480"/>
          </a:xfrm>
          <a:prstGeom prst="wedgeRectCallout">
            <a:avLst>
              <a:gd name="adj1" fmla="val -45379"/>
              <a:gd name="adj2" fmla="val 10765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1400" y="2841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2:22Z</dcterms:modified>
  <cp:revision>41</cp:revision>
  <dc:subject/>
  <dc:title>PowerPoint Presentation</dc:title>
</cp:coreProperties>
</file>