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2C1-594A-4F7B-8A8D-AA691E26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3EA-7904-40E6-B0C0-F1B4A78C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5AD-16C3-428B-9449-68A4EA4F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050-1855-4925-9AAA-CC5CAD96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5FD-ABFA-4E7A-B382-BD7CD2A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199-75F0-4BD1-A545-C995D2F1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463-6171-4682-88A5-220C0991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2A0-CBE7-4750-A6BE-126810A4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95D-2B57-405F-A206-A50818B1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93E-7C0C-442C-B396-DC0FB96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F44-CC9C-4AD2-9CFA-D7946FDE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57B-CBE8-4BD8-A659-D4C3512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9D9E7-06BC-4395-BB30-75AA4657C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5:02:38Z</dcterms:created>
  <dc:creator>Stefanie </dc:creator>
  <dc:description/>
  <dc:language>en-US</dc:language>
  <cp:lastModifiedBy/>
  <cp:revision>1</cp:revision>
  <dc:subject/>
  <dc:title/>
</cp:coreProperties>
</file>