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D5D-4BE5-4482-BDF4-ABF248A6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349-D6CD-4193-953C-42150FF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7D4-F1F2-4F71-92D1-759CDA79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F1C-33BF-47D7-A940-ED4B7FA7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F6E-2193-4850-B18A-F0ABE923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6FB-9ED9-4F13-AC93-6BF89D02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C70-7EF0-40F2-8E0D-B4706604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908-CCB0-4DFA-B02D-7916C36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460-7BF8-44E6-9E83-76E4F9C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4EF-A13B-4C4E-B5CE-27F97A9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215-865C-48CC-AECD-77110DA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1F0-0248-4C15-8470-A162C31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AA5-C6E7-4818-A0F5-33F052D6B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RMS User Manu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AFT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y 18, 200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31720" y="5715000"/>
            <a:ext cx="621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originally Authored by Ken Gregoire.  Open Source License appl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MS User Manual - Version Draf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8, 200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230040"/>
          <a:ext cx="8534160" cy="645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0040"/>
                    <a:ext cx="8534160" cy="64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509760"/>
          <a:ext cx="8534160" cy="58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09760"/>
                    <a:ext cx="8534160" cy="58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11040"/>
          <a:ext cx="8077320" cy="63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1040"/>
                    <a:ext cx="8077320" cy="63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04920" y="493560"/>
          <a:ext cx="853416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3560"/>
                    <a:ext cx="853416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8:10:43Z</dcterms:created>
  <dc:creator>Ken Gregoire</dc:creator>
  <dc:description/>
  <dc:language>en-US</dc:language>
  <cp:lastModifiedBy>Ken Gregoire</cp:lastModifiedBy>
  <dcterms:modified xsi:type="dcterms:W3CDTF">2004-05-18T18:45:15Z</dcterms:modified>
  <cp:revision>4</cp:revision>
  <dc:subject/>
  <dc:title>PowerPoint Presentation</dc:title>
</cp:coreProperties>
</file>