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8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A40-2083-4F1A-BC25-B7FDB017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EA8-9957-4E7F-864F-6307D757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CAD-778A-411F-9642-6631420B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522-C84F-46C5-9CBC-195FA0A8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1418-53F5-4A4C-BE2D-BCB02EF6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863-6188-4D75-9A0E-754EBDD3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F97-A49C-4E2F-82E0-91507526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B32-A592-45C2-8CE0-E5309B22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A63-6570-4CF3-97B5-346BFA85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FE1-86A3-427A-BBD8-687C0FD8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9DD-D55A-4121-8A29-B6843E6D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13D-E1F1-4C03-8CBF-B04BAA06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0BE7-3F97-41DF-BCA0-0E3F3708A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ndkind.org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520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987800" y="4800600"/>
            <a:ext cx="41562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5800" y="0"/>
          <a:ext cx="7543800" cy="66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543800" cy="66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51418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057400"/>
            <a:ext cx="7238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463 et pr0n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lancher dev/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Un ti mot des intéressé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hacking</a:t>
            </a:r>
            <a:br>
              <a:rPr sz="4400"/>
            </a:b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( sploits and secu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9320" y="2057400"/>
            <a:ext cx="723888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obablement à la st-valentin 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(cute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rrection individuelle (pas la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Au moins 70%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aintenant le seul ezine QC qui a de l’allure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(concurrent : madquebec, LJNB: dead, essayer de remplacer en bouffant les articles via L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2057400"/>
            <a:ext cx="723888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ding : Wyze; design : h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différ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news aboutus database exploits products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projects services doors jun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news: submiss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osting </a:t>
            </a:r>
            <a:r>
              <a:rPr b="0" lang="fr-CA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indkind.org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WiL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, dedied      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BSD, speed++, P3 500, 2 NS (NT+BS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membres enh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Cas pyrof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438280"/>
            <a:ext cx="76201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Exemple IGA / TSA (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Pas juste Mulder pis Patoff ( Nuclear, TheDamned pis un autre (si on aurait pas défacé le site on l’aurait su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Section phreak déficiante du sit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oyen d’aller chercher ça ailleur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3210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KC faire avec Flop pis S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133720"/>
            <a:ext cx="7238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On oublie la sodom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Ce sont pas des fi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Ts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On va aller les voir pis les j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ffff"/>
                </a:solidFill>
                <a:latin typeface="Times New Roman"/>
              </a:rPr>
              <a:t>T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64364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ar Wyzeman et LastCall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1663560"/>
          </a:xfrm>
          <a:prstGeom prst="rect">
            <a:avLst/>
          </a:prstGeom>
          <a:ln w="0">
            <a:noFill/>
          </a:ln>
        </p:spPr>
      </p:pic>
      <p:pic>
        <p:nvPicPr>
          <p:cNvPr id="43" name="happy2003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3962520" cy="45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1523880"/>
            <a:ext cx="7238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h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as pyrofreak (fusio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KC faire avec Flop pis S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600200"/>
            <a:ext cx="7238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stablished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sector_x 1999- 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mindkind 2001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emier eZine mai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Deuxième eZine septem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roisième eZine décem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Next eZine ??? DEM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2057400"/>
            <a:ext cx="7238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Zine genre d’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flation des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rosseur des e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ailles des eZines (comparativ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NB articles et auteurs pa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HE TR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509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4048200"/>
            <a:ext cx="39798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-228600" y="0"/>
          <a:ext cx="9144000" cy="520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41960" y="4624560"/>
            <a:ext cx="39020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7924680" cy="48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92468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4800600"/>
            <a:ext cx="3824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0"/>
          <a:ext cx="7925040" cy="67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9250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638680" y="5697360"/>
            <a:ext cx="2595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22:24:08Z</dcterms:created>
  <dc:creator>LastCall_</dc:creator>
  <dc:description/>
  <dc:language>en-US</dc:language>
  <cp:lastModifiedBy>LastCall_</cp:lastModifiedBy>
  <dcterms:modified xsi:type="dcterms:W3CDTF">2003-01-18T19:40:58Z</dcterms:modified>
  <cp:revision>24</cp:revision>
  <dc:subject/>
  <dc:title>Présentation PowerPoint</dc:title>
</cp:coreProperties>
</file>